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A8D-1E8F-4F59-B6B4-A45E1B49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770-3FAC-4C0C-8CEA-9CC4054D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894-994F-4A1F-9CAB-4D46CCAD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988-AF7E-4668-A803-46242DE2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0AB-129F-4C71-A22D-F649E94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7E5-7036-450E-98CB-07127343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FFE-E291-4265-9BAA-2F1812E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CA9-F3C0-476E-81F5-7AE8A4D7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2F2-0A8F-40FD-ABC1-8462394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1B6-2EF9-4630-B47A-5554D08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642-525E-48CA-9F8B-2E9F9D8E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BC4-015A-4C69-ADA9-89AD15B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AB1-3748-4D7D-89F5-189402C6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808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Lucida Sans Unicode"/>
              </a:rPr>
              <a:t>A lesson in Childre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Lucida Sans Unicode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8" descr=""/>
          <p:cNvPicPr/>
          <p:nvPr/>
        </p:nvPicPr>
        <p:blipFill>
          <a:blip r:embed="rId1"/>
          <a:stretch/>
        </p:blipFill>
        <p:spPr>
          <a:xfrm>
            <a:off x="5791320" y="3067200"/>
            <a:ext cx="2714400" cy="333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"/>
          <p:cNvPicPr/>
          <p:nvPr/>
        </p:nvPicPr>
        <p:blipFill>
          <a:blip r:embed="rId2"/>
          <a:stretch/>
        </p:blipFill>
        <p:spPr>
          <a:xfrm>
            <a:off x="380880" y="3121200"/>
            <a:ext cx="495324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, Brave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203720" cy="556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971800"/>
            <a:ext cx="58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ake heed and lear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80880"/>
            <a:ext cx="58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How to k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648320" cy="5333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80880"/>
            <a:ext cx="58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Muti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11" descr=""/>
          <p:cNvPicPr/>
          <p:nvPr/>
        </p:nvPicPr>
        <p:blipFill>
          <a:blip r:embed="rId1"/>
          <a:stretch/>
        </p:blipFill>
        <p:spPr>
          <a:xfrm>
            <a:off x="228600" y="1569960"/>
            <a:ext cx="8763120" cy="406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42552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And eat your enemy’s l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60958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avage Palestinian crowd waves Interior body parts of  butchered human vict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16" descr=""/>
          <p:cNvPicPr/>
          <p:nvPr/>
        </p:nvPicPr>
        <p:blipFill>
          <a:blip r:embed="rId1"/>
          <a:stretch/>
        </p:blipFill>
        <p:spPr>
          <a:xfrm>
            <a:off x="1447920" y="1084320"/>
            <a:ext cx="6172200" cy="4997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8088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, Children of Pales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477120" cy="4995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8088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Join the legions of Shahid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73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5667480"/>
            <a:ext cx="58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*holy assas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808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o rise to heaven in the holy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4881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8088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udly wear the sacred </a:t>
            </a: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explosive be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9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10440" cy="493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3808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explosive be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14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n your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80880"/>
            <a:ext cx="58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And kill the Jew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8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11480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81680" y="5029200"/>
            <a:ext cx="144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vered bodies of the victims of the terrorist attack  at Azor Junction, south of Tel-Avi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088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, Children of Pales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672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3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m in their restauran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Object 7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603576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rch 9 2002. Eleven Israelis butchered, 54 injured in the suicide bombing at Café “Moment” in Jerusalem on Saturday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33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m in their tow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4343400"/>
            <a:ext cx="16002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cember 1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uicide bombing at the Ben Yehuda pedestrian walkway in Jerusalem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3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1200" cy="4900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 their car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644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730840"/>
            <a:ext cx="655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rch 5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borah Friedman, 54, was killed in a shooting attack on the Tunnel Ro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11" descr=""/>
          <p:cNvPicPr/>
          <p:nvPr/>
        </p:nvPicPr>
        <p:blipFill>
          <a:blip r:embed="rId1"/>
          <a:stretch/>
        </p:blipFill>
        <p:spPr>
          <a:xfrm>
            <a:off x="1523880" y="1150920"/>
            <a:ext cx="6096240" cy="4411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ir 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91320" cy="397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5730840"/>
            <a:ext cx="655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rch 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lomo and Gafnit Nehmad and their daughters shiraz (7) and Liran, killed in the Beit Israel suicide bomb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ir y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746600" cy="460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5867280"/>
            <a:ext cx="472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iday, June 1, 2001. Twenty one youngsters were massacred by a suicide bomber outside a disco near Tel Aviv's Dolphina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ir babi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8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27816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"/>
          <p:cNvPicPr/>
          <p:nvPr/>
        </p:nvPicPr>
        <p:blipFill>
          <a:blip r:embed="rId2"/>
          <a:stretch/>
        </p:blipFill>
        <p:spPr>
          <a:xfrm>
            <a:off x="1298520" y="1676520"/>
            <a:ext cx="327348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548964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rch 26, 2001. Shalhevet Pass, aged 10 months, deliberately killed by a Palestinian sniper in Hebron, is carried by her father to be bur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d More babi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Object 44" descr=""/>
          <p:cNvPicPr/>
          <p:nvPr/>
        </p:nvPicPr>
        <p:blipFill>
          <a:blip r:embed="rId1"/>
          <a:stretch/>
        </p:blipFill>
        <p:spPr>
          <a:xfrm>
            <a:off x="2057400" y="1166760"/>
            <a:ext cx="4952880" cy="4853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12960" y="3808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ill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3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5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1450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6" descr=""/>
          <p:cNvPicPr/>
          <p:nvPr/>
        </p:nvPicPr>
        <p:blipFill>
          <a:blip r:embed="rId4"/>
          <a:stretch/>
        </p:blipFill>
        <p:spPr>
          <a:xfrm>
            <a:off x="2209680" y="3886200"/>
            <a:ext cx="4227480" cy="231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57600" y="3124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808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80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y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ke your mothers proud of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2400480" y="1219320"/>
            <a:ext cx="4457520" cy="5181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udly wear the sacred explosive be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24600" cy="521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isten to your M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o tell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52480" y="38088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d proudly rise to hea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76320"/>
            <a:ext cx="702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The Palestinian Children are brought up from infancy to become assassins. To kill as many Jews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0360" y="5410080"/>
            <a:ext cx="666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Please make every </a:t>
            </a:r>
            <a:r>
              <a:rPr b="0" lang="es-ES_tradnl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effort and forward this presentation to all your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600200"/>
            <a:ext cx="702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Their mothers are brainwashed by a savage, merciless regime, to sacrifice their offspring to All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2004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It’s mass human sacrifice practiced in the 2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Impact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3434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Help save the children of Palestine and Israel from this barbar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8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Kill the Jew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Object 8" descr=""/>
          <p:cNvPicPr/>
          <p:nvPr/>
        </p:nvPicPr>
        <p:blipFill>
          <a:blip r:embed="rId1"/>
          <a:stretch/>
        </p:blipFill>
        <p:spPr>
          <a:xfrm>
            <a:off x="2111400" y="914400"/>
            <a:ext cx="53560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57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arn to use your weapon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762120" y="1317600"/>
            <a:ext cx="7772400" cy="4930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808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ep out into the str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54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t as human shield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964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our bigger br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7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8088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o hide behind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94360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Firing at the enem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10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8:35Z</dcterms:created>
  <dc:creator>ISGROUP</dc:creator>
  <dc:description/>
  <dc:language>en-US</dc:language>
  <cp:lastModifiedBy>אבישג</cp:lastModifiedBy>
  <dcterms:modified xsi:type="dcterms:W3CDTF">2002-04-06T14:38:53Z</dcterms:modified>
  <cp:revision>145</cp:revision>
  <dc:subject/>
  <dc:title>מצגת של PowerPoint</dc:title>
</cp:coreProperties>
</file>