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5.jpeg" ContentType="image/jpeg"/>
  <Override PartName="/ppt/media/image4.jpeg" ContentType="image/jpeg"/>
  <Override PartName="/ppt/media/image1.png" ContentType="image/png"/>
  <Override PartName="/ppt/media/LATIGO.WAV" ContentType="audio/x-wav"/>
  <Override PartName="/ppt/media/image9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110-F75D-4B3F-846D-ECC507D3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6B4-E205-4B47-B1DD-4A3D5FE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179-E834-478A-877B-4EAC6B9F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50B-5140-45A8-8223-730EE5C3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B9B-2B1E-44A4-A6CA-BF58630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5E4-ED3B-4185-922C-726AB049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D9F-E391-45B6-803B-9090AE5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E17-E362-4857-8889-353A3B8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7C3-DC6A-4B0B-87F0-3E54C10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E43-FA83-4F83-96CF-441673B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ACE-9C43-44C1-9579-994CAEB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E72-1CA7-4A00-A831-5B06761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26B-AC05-4519-BDA4-029899129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971800"/>
            <a:ext cx="434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Citas para pensa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1" name="LATIG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280" y="228600"/>
            <a:ext cx="825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as reservas de una nación pueden ser vaciadas en cuestión de días u ho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7560" y="609480"/>
            <a:ext cx="88354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Y cuando esto pasa, el FMI insiste en que estas naciones suban sus tasas de interé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30%, 50% y 80% para seducir a los especuladores y que regresen con los fondos de la 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9000" y="1219320"/>
            <a:ext cx="88830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altas tasas de interés destruyen el valor de la propiedad, despedazan salvajament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oducción industrial y vacían las arcas del tesoro naciona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...Cuando una nación está caí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 en desgracia, (el FMI) se aprovecha y le exprime hasta la última gota de sang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. Incrementa el calor hasta que, finalmente, la olla entera explo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80" y="2666880"/>
            <a:ext cx="8847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l plan de "Asistencia" del Banco Mundial simplemente recomienda que se enfren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s protestas civiles y el sufrimiento con "firmeza política" y precios aún más alto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240" y="3429000"/>
            <a:ext cx="8977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s disturbios del FMI (me refiero a protestas pasivas dispersadas por balas, tan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 gas lacrimógeno) causan, debido al pánico, nuevas salidas del capital, ademá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obiernos en bancarrota. Sin embargo, este incendio económico tiene un lado posi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para las corporaciones extranjeras-, quienes pueden adquirir los bienes rest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l como una concesión minera o puerto, a precios de rem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1280" y="5105520"/>
            <a:ext cx="70005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y muchos perdedores en este sistema pero claramente un solo ganador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BANCOS OCCIDENTALES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y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SORO DE LOS EEU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8840" y="5956200"/>
            <a:ext cx="553464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imes New Roman"/>
              </a:rPr>
              <a:t>Joseph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tiglitz  ex funcionario del Banco mundial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Reportaje para El Observador de Londres por Greg Palast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 de Octubre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1" name="LATIG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OLARIZACION2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1812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6320" y="3809880"/>
            <a:ext cx="592020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plan para hacer del dólar de los EEU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 moneda de Ecu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 empujado al 51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 debajo de la línea de pobreza.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2760" y="5751360"/>
            <a:ext cx="45849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del Reportaje a Joseph Stigli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para El Observador de Londres por Greg Pala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 de Octubre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3840" y="2587680"/>
            <a:ext cx="44571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2000" spc="-1" strike="noStrike">
                <a:solidFill>
                  <a:srgbClr val="ccff99"/>
                </a:solidFill>
                <a:latin typeface="Times New Roman"/>
              </a:rPr>
              <a:t>PODER FINANCIERO MUNDIA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stá dirigie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el proceso de globalización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ara ser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ÚNIC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" y="4127400"/>
            <a:ext cx="84848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su paso arrasa con las Naciones Esta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ata odios y promueve guerr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iquila el pluralismo cultur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uye el medio ambiente, y condena a gran parte del 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la muerte, el hambre y la devas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3200" y="5996160"/>
            <a:ext cx="72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 PODER FINANCIERO MUNDIAL está dispuesto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A6JG5QJ" descr=""/>
          <p:cNvPicPr/>
          <p:nvPr/>
        </p:nvPicPr>
        <p:blipFill>
          <a:blip r:embed="rId1"/>
          <a:stretch/>
        </p:blipFill>
        <p:spPr>
          <a:xfrm>
            <a:off x="2209680" y="0"/>
            <a:ext cx="4419720" cy="2560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2" name="LATIGO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id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33560" cy="2541600"/>
          </a:xfrm>
          <a:prstGeom prst="rect">
            <a:avLst/>
          </a:prstGeom>
          <a:ln w="0">
            <a:noFill/>
          </a:ln>
        </p:spPr>
      </p:pic>
      <p:pic>
        <p:nvPicPr>
          <p:cNvPr id="106" name="genova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810240" cy="2509920"/>
          </a:xfrm>
          <a:prstGeom prst="rect">
            <a:avLst/>
          </a:prstGeom>
          <a:ln w="0">
            <a:noFill/>
          </a:ln>
        </p:spPr>
      </p:pic>
      <p:pic>
        <p:nvPicPr>
          <p:cNvPr id="107" name="yankes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4362480" cy="2873160"/>
          </a:xfrm>
          <a:prstGeom prst="rect">
            <a:avLst/>
          </a:prstGeom>
          <a:ln w="0">
            <a:noFill/>
          </a:ln>
        </p:spPr>
      </p:pic>
      <p:pic>
        <p:nvPicPr>
          <p:cNvPr id="108" name="verde" descr=""/>
          <p:cNvPicPr/>
          <p:nvPr/>
        </p:nvPicPr>
        <p:blipFill>
          <a:blip r:embed="rId4"/>
          <a:stretch/>
        </p:blipFill>
        <p:spPr>
          <a:xfrm>
            <a:off x="5029200" y="533520"/>
            <a:ext cx="3581280" cy="2565360"/>
          </a:xfrm>
          <a:prstGeom prst="rect">
            <a:avLst/>
          </a:prstGeom>
          <a:ln w="0">
            <a:noFill/>
          </a:ln>
        </p:spPr>
      </p:pic>
      <p:pic>
        <p:nvPicPr>
          <p:cNvPr id="109" name="davos" descr=""/>
          <p:cNvPicPr/>
          <p:nvPr/>
        </p:nvPicPr>
        <p:blipFill>
          <a:blip r:embed="rId5"/>
          <a:stretch/>
        </p:blipFill>
        <p:spPr>
          <a:xfrm>
            <a:off x="3200400" y="1371600"/>
            <a:ext cx="2514600" cy="172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32004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mundo entero se esta rebel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AMWTKKY" descr=""/>
          <p:cNvPicPr/>
          <p:nvPr/>
        </p:nvPicPr>
        <p:blipFill>
          <a:blip r:embed="rId6"/>
          <a:stretch/>
        </p:blipFill>
        <p:spPr>
          <a:xfrm>
            <a:off x="5334120" y="373392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112" name="CASD63GN" descr=""/>
          <p:cNvPicPr/>
          <p:nvPr/>
        </p:nvPicPr>
        <p:blipFill>
          <a:blip r:embed="rId7"/>
          <a:stretch/>
        </p:blipFill>
        <p:spPr>
          <a:xfrm>
            <a:off x="0" y="2590920"/>
            <a:ext cx="15462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CAYBO9OL" descr=""/>
          <p:cNvPicPr/>
          <p:nvPr/>
        </p:nvPicPr>
        <p:blipFill>
          <a:blip r:embed="rId8"/>
          <a:stretch/>
        </p:blipFill>
        <p:spPr>
          <a:xfrm>
            <a:off x="6553080" y="2743200"/>
            <a:ext cx="2590920" cy="14540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9" name="LATIGO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74320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Y VO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1" name="LATIGO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ron" descr=""/>
          <p:cNvPicPr/>
          <p:nvPr/>
        </p:nvPicPr>
        <p:blipFill>
          <a:blip r:embed="rId1"/>
          <a:stretch/>
        </p:blipFill>
        <p:spPr>
          <a:xfrm>
            <a:off x="2362320" y="0"/>
            <a:ext cx="4038480" cy="3246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1120" y="3335400"/>
            <a:ext cx="8382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Si es necesario vamos a comer menos, vamos a gastar menos en ropa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n cosas superfluas, tendremos menos automóvil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ero empréstitos no; empréstitos no vamos a realiza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5760" y="4495680"/>
            <a:ext cx="88174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Vamos a conquistar la riqueza con nuestro trabajo y,con nuestro sacrifici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ero no recurriremos al usure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040" y="5237280"/>
            <a:ext cx="877752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! Pobre del país que cae en manos de los actuales usureros, porque es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e sacan no sólo el dinero,  sino la independencia, la libertad y la dignidad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75160" y="6095880"/>
            <a:ext cx="35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UAN DOMINGO P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Yrigoyen" descr=""/>
          <p:cNvPicPr/>
          <p:nvPr/>
        </p:nvPicPr>
        <p:blipFill>
          <a:blip r:embed="rId1"/>
          <a:stretch/>
        </p:blipFill>
        <p:spPr>
          <a:xfrm>
            <a:off x="3048120" y="228600"/>
            <a:ext cx="318744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2400" y="4724280"/>
            <a:ext cx="83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"No temo tanto a los de afuera que nos quieren comprar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mo a los de adentro que nos quieren vend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7920" y="594360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POLITO YRIGOY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an%20Martin2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28428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86040" y="4648320"/>
            <a:ext cx="70387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"Cuando la Nación está en peligro, todo está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lvo no defenderla!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01600" y="58672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OSE DE SAN 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040" y="1143000"/>
            <a:ext cx="732132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el momento justo para OLVIDAR rencores inter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RECONONCER el VERDADERO CONFLICTO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s las pequeñas desavenecias van a ser barridas por el conflicto princip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04920"/>
            <a:ext cx="39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AR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T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I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981080"/>
            <a:ext cx="49021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DER FINANCIERO MUNDIAL (Uniform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0280" y="2666880"/>
            <a:ext cx="528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1920" y="304812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imes New Roman"/>
              </a:rPr>
              <a:t>LA GENTE Y sus Naciones Estado (Pluralis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12960" y="3657600"/>
            <a:ext cx="87256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rupo detrás de la globalización hace rato que esta "probando los dientes" con pequeñ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ises. Argentina es el primer gran bocado. Por eso se están arriesgando t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el momento justo de RECONONCER el VERDADERO CONFLICTO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os los que deseen la existencia de un ESTADO NACIONAL ARGENTIN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a preservar cultura, historia, costumbres, "forma de ser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s de vivir la sociedad, la amistad, la solidarida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N UNIRSE, DEBEN POSTERGAR las pequeñas rencill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Iceberg está delante, grande, imponente y riéndose a carcajadas de nuestras peleas in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1" name="LATIGO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6120" y="5181480"/>
            <a:ext cx="328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VIA 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PUEBLO que SU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JUST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MISERIA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565360" cy="1569960"/>
          </a:xfrm>
          <a:prstGeom prst="rect">
            <a:avLst/>
          </a:prstGeom>
          <a:ln w="0">
            <a:noFill/>
          </a:ln>
        </p:spPr>
      </p:pic>
      <p:pic>
        <p:nvPicPr>
          <p:cNvPr id="140" name="POBRE1" descr=""/>
          <p:cNvPicPr/>
          <p:nvPr/>
        </p:nvPicPr>
        <p:blipFill>
          <a:blip r:embed="rId2"/>
          <a:stretch/>
        </p:blipFill>
        <p:spPr>
          <a:xfrm>
            <a:off x="3200400" y="2246400"/>
            <a:ext cx="2895480" cy="2496960"/>
          </a:xfrm>
          <a:prstGeom prst="rect">
            <a:avLst/>
          </a:prstGeom>
          <a:ln w="0">
            <a:noFill/>
          </a:ln>
        </p:spPr>
      </p:pic>
      <p:pic>
        <p:nvPicPr>
          <p:cNvPr id="141" name="POBRE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317484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DESOCUPADOS" descr=""/>
          <p:cNvPicPr/>
          <p:nvPr/>
        </p:nvPicPr>
        <p:blipFill>
          <a:blip r:embed="rId4"/>
          <a:stretch/>
        </p:blipFill>
        <p:spPr>
          <a:xfrm>
            <a:off x="2819520" y="1143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OBRES2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5283360" cy="4162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6" name="LATIG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obres_y_rico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553000" cy="304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720" y="4572000"/>
            <a:ext cx="886752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Mientras que la gran cantidad de gente mentalmente incapaz de compre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la enorme ventaja que el capital deriva del sistem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llevará sus cargas sin queja y quizás sin incluso sospechar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el sistema es hostil (hace daño) a sus intereses".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9680" y="3048120"/>
            <a:ext cx="864972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"Los pocos que pueden entender el sistema (cheques y créditos) estará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an interesados en sus beneficios, o serán tan dependientes de sus favores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que </a:t>
            </a:r>
            <a:r>
              <a:rPr b="0" i="1" lang="en-US" sz="2200" spc="-1" strike="noStrike">
                <a:solidFill>
                  <a:srgbClr val="ccccff"/>
                </a:solidFill>
                <a:latin typeface="Times New Roman"/>
              </a:rPr>
              <a:t>no habrá oposición por parte de este grupo.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8440" y="6064200"/>
            <a:ext cx="6258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Extracto de una carta escrita por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Rothschild Brothers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 de Lond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a una firma de banqueros de Nueva York el 25 de junio de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4920" y="228600"/>
            <a:ext cx="8839080" cy="3505320"/>
            <a:chOff x="304920" y="228600"/>
            <a:chExt cx="8839080" cy="3505320"/>
          </a:xfrm>
        </p:grpSpPr>
        <p:pic>
          <p:nvPicPr>
            <p:cNvPr id="146" name="SINDICALISTAS" descr=""/>
            <p:cNvPicPr/>
            <p:nvPr/>
          </p:nvPicPr>
          <p:blipFill>
            <a:blip r:embed="rId1"/>
            <a:stretch/>
          </p:blipFill>
          <p:spPr>
            <a:xfrm>
              <a:off x="5562720" y="228600"/>
              <a:ext cx="185400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REUTEMAN" descr=""/>
            <p:cNvPicPr/>
            <p:nvPr/>
          </p:nvPicPr>
          <p:blipFill>
            <a:blip r:embed="rId2"/>
            <a:stretch/>
          </p:blipFill>
          <p:spPr>
            <a:xfrm>
              <a:off x="609480" y="304920"/>
              <a:ext cx="182880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CANN5PTX" descr=""/>
            <p:cNvPicPr/>
            <p:nvPr/>
          </p:nvPicPr>
          <p:blipFill>
            <a:blip r:embed="rId3"/>
            <a:stretch/>
          </p:blipFill>
          <p:spPr>
            <a:xfrm>
              <a:off x="7315200" y="1523880"/>
              <a:ext cx="1104840" cy="14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MURPHY" descr=""/>
            <p:cNvPicPr/>
            <p:nvPr/>
          </p:nvPicPr>
          <p:blipFill>
            <a:blip r:embed="rId4"/>
            <a:stretch/>
          </p:blipFill>
          <p:spPr>
            <a:xfrm>
              <a:off x="3733920" y="228600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CA8X75G7" descr=""/>
            <p:cNvPicPr/>
            <p:nvPr/>
          </p:nvPicPr>
          <p:blipFill>
            <a:blip r:embed="rId5"/>
            <a:stretch/>
          </p:blipFill>
          <p:spPr>
            <a:xfrm>
              <a:off x="7238880" y="380880"/>
              <a:ext cx="19051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REUTEMANNÇ" descr=""/>
            <p:cNvPicPr/>
            <p:nvPr/>
          </p:nvPicPr>
          <p:blipFill>
            <a:blip r:embed="rId6"/>
            <a:stretch/>
          </p:blipFill>
          <p:spPr>
            <a:xfrm>
              <a:off x="1523880" y="2514600"/>
              <a:ext cx="12448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STORANI" descr=""/>
            <p:cNvPicPr/>
            <p:nvPr/>
          </p:nvPicPr>
          <p:blipFill>
            <a:blip r:embed="rId7"/>
            <a:stretch/>
          </p:blipFill>
          <p:spPr>
            <a:xfrm>
              <a:off x="304920" y="1066680"/>
              <a:ext cx="111744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EIJIDE" descr=""/>
            <p:cNvPicPr/>
            <p:nvPr/>
          </p:nvPicPr>
          <p:blipFill>
            <a:blip r:embed="rId8"/>
            <a:stretch/>
          </p:blipFill>
          <p:spPr>
            <a:xfrm>
              <a:off x="7010280" y="1447920"/>
              <a:ext cx="822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BARRA" descr=""/>
            <p:cNvPicPr/>
            <p:nvPr/>
          </p:nvPicPr>
          <p:blipFill>
            <a:blip r:embed="rId9"/>
            <a:stretch/>
          </p:blipFill>
          <p:spPr>
            <a:xfrm>
              <a:off x="304920" y="2286000"/>
              <a:ext cx="115560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CAVALLO" descr=""/>
            <p:cNvPicPr/>
            <p:nvPr/>
          </p:nvPicPr>
          <p:blipFill>
            <a:blip r:embed="rId10"/>
            <a:stretch/>
          </p:blipFill>
          <p:spPr>
            <a:xfrm>
              <a:off x="1066680" y="1143000"/>
              <a:ext cx="179100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ATRICIA" descr=""/>
            <p:cNvPicPr/>
            <p:nvPr/>
          </p:nvPicPr>
          <p:blipFill>
            <a:blip r:embed="rId11"/>
            <a:stretch/>
          </p:blipFill>
          <p:spPr>
            <a:xfrm>
              <a:off x="2514600" y="2438280"/>
              <a:ext cx="120636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DUHALDE" descr=""/>
            <p:cNvPicPr/>
            <p:nvPr/>
          </p:nvPicPr>
          <p:blipFill>
            <a:blip r:embed="rId12"/>
            <a:stretch/>
          </p:blipFill>
          <p:spPr>
            <a:xfrm>
              <a:off x="5257800" y="1295280"/>
              <a:ext cx="182880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MARYJULY" descr=""/>
            <p:cNvPicPr/>
            <p:nvPr/>
          </p:nvPicPr>
          <p:blipFill>
            <a:blip r:embed="rId13"/>
            <a:stretch/>
          </p:blipFill>
          <p:spPr>
            <a:xfrm>
              <a:off x="5105520" y="2438280"/>
              <a:ext cx="190476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MACHINEA" descr=""/>
            <p:cNvPicPr/>
            <p:nvPr/>
          </p:nvPicPr>
          <p:blipFill>
            <a:blip r:embed="rId14"/>
            <a:stretch/>
          </p:blipFill>
          <p:spPr>
            <a:xfrm>
              <a:off x="6781680" y="2362320"/>
              <a:ext cx="9525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alf" descr=""/>
            <p:cNvPicPr/>
            <p:nvPr/>
          </p:nvPicPr>
          <p:blipFill>
            <a:blip r:embed="rId15"/>
            <a:stretch/>
          </p:blipFill>
          <p:spPr>
            <a:xfrm>
              <a:off x="2133720" y="304920"/>
              <a:ext cx="67608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220320" y="380988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vía ha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rruptos y traid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 adentro que nos quieren v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3760" y="4343400"/>
            <a:ext cx="66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ta de pedir DINERO afuera para PARA RO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SEGUIR ENTREGAND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17960" y="548640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ERA EL F.M.I.!!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CAQ3WP63" descr=""/>
          <p:cNvPicPr/>
          <p:nvPr/>
        </p:nvPicPr>
        <p:blipFill>
          <a:blip r:embed="rId16"/>
          <a:stretch/>
        </p:blipFill>
        <p:spPr>
          <a:xfrm>
            <a:off x="2743200" y="0"/>
            <a:ext cx="3276720" cy="247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17" name="LATIGO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banco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39040" cy="4741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5600" y="51814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lucha no terminó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7440" y="579132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l rol de cada uno depende el desenlac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ANDERA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  <p:sndAc>
      <p:stSnd>
        <p:snd r:embed="rId2" name="LATIG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AXUN5LI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268596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440" y="4800600"/>
            <a:ext cx="93200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Esto no es verdad... en 1913, el presidente Woodrow Wilson firmó el documento que creó l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reserva federal, y condenó al pueblo norteamericano a la esclavitud por deudas hasta qu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llegue el tiempo en que el pueblo despierte de su atontamiento y derroque esta tiranía viciosa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1320" y="617220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vista: Hand Over Our Loot, No. 2, por Len Clamp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228600" y="3733920"/>
            <a:ext cx="96012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"En los Estados Unidos, la emisión de dinero es controlada por la Junta de la Reserva Federa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Esta es una Junta de Banqueros Priv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9680" y="4724280"/>
            <a:ext cx="8649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La mayoría de nosotros creería que la Reserva Federal es una institución del gobier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Uncle-Sam-w-Share-2001" descr=""/>
          <p:cNvPicPr/>
          <p:nvPr/>
        </p:nvPicPr>
        <p:blipFill>
          <a:blip r:embed="rId1"/>
          <a:stretch/>
        </p:blipFill>
        <p:spPr>
          <a:xfrm>
            <a:off x="2917800" y="228600"/>
            <a:ext cx="318780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3809880"/>
            <a:ext cx="457200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6440" y="4038480"/>
            <a:ext cx="66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e ha oído hablar de concesiones hechas por América Lat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 capital extranjero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09120" y="472428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ero no de concesiones hechas por los Estados U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al capital de otros paise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00" y="5562720"/>
            <a:ext cx="776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 país es poseído y dominado por el capital que en él se haya inverti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7720" y="6461280"/>
            <a:ext cx="55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Woodrow Wilson, Presidente norteamericano -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4520" y="5486400"/>
            <a:ext cx="41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 que nosotros no damos conce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undo1" descr=""/>
          <p:cNvPicPr/>
          <p:nvPr/>
        </p:nvPicPr>
        <p:blipFill>
          <a:blip r:embed="rId1"/>
          <a:stretch/>
        </p:blipFill>
        <p:spPr>
          <a:xfrm>
            <a:off x="3200400" y="0"/>
            <a:ext cx="2681280" cy="373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080" y="3873600"/>
            <a:ext cx="912384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capital debe protegerse a sí mismo de todas las maneras posib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ndo, por los procesos de la ley, la gente pierda sus hogares se volverán más dóc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se gobernará más fácilmente con la influencia del brazo fuerte del gobierno, apl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0" lang="es-ES_tradnl" sz="2200" spc="-1" strike="noStrike">
                <a:solidFill>
                  <a:srgbClr val="ccccff"/>
                </a:solidFill>
                <a:latin typeface="Times New Roman"/>
              </a:rPr>
              <a:t>una potencia central monetaria bajo el control de los principales financistas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3440" y="5410080"/>
            <a:ext cx="833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a verdad es bien conocida entre nuestros principales hom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hora empeñados en formar un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</a:rPr>
              <a:t>imperio financier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para gobernar el mundo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0520" y="6172200"/>
            <a:ext cx="65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vista del banquero de los E.E.U.U., de agosto el 25 de 19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aras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89480" cy="556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71600" y="4724280"/>
            <a:ext cx="61722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6280" y="4495680"/>
            <a:ext cx="8433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 hay manera más directa de capturar el control de una 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 a través de su sistema del crédito (de su dinero)"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3360" y="5641920"/>
            <a:ext cx="7353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Sr. Phillip A. Ben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Presidente de la asociación de los banqueros americanos,  8 de junio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939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larizacion120101" descr=""/>
          <p:cNvPicPr/>
          <p:nvPr/>
        </p:nvPicPr>
        <p:blipFill>
          <a:blip r:embed="rId1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895480"/>
            <a:ext cx="451008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 poco me inte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uienes la gobierna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86400" y="4343400"/>
            <a:ext cx="543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yer Amsch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dador de la dinastía Rothschild, siglo X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16800" y="1828800"/>
            <a:ext cx="522684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"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adme el poder sobre la mone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 una 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dinero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435120" cy="396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20120" y="4599000"/>
            <a:ext cx="67341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ya que a los ciudadanos comunes no les gustará saber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que los bancos pueden crear y destruir dinero a su gusto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88080" y="624852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Mister Reginald McKenna, presidente del Banco de Midland en Londres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9200" y="5486400"/>
            <a:ext cx="82350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Y que lo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ncos 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controlan el crédito de la nación, dirigen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olítica de los gobiernos, y  tienen en sus manos el destino de la gente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8320" y="4294080"/>
            <a:ext cx="21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oy asustado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ANCOS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4529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88440" y="4648320"/>
            <a:ext cx="66668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"La batalla que se ha filtrado bajo los sig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que tendrá que ser luchada más pronto o más t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gente vs. los Banc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0240" y="6122880"/>
            <a:ext cx="57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d Acton, Lord  Jefe de Justicia de Inglaterra,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1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  <p:sndAc>
      <p:stSnd>
        <p:snd r:embed="rId2" name="LATIG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19:34:27Z</dcterms:created>
  <dc:creator>Obdulio</dc:creator>
  <dc:description/>
  <dc:language>en-US</dc:language>
  <cp:lastModifiedBy>JUAN</cp:lastModifiedBy>
  <dcterms:modified xsi:type="dcterms:W3CDTF">2002-04-02T18:00:00Z</dcterms:modified>
  <cp:revision>75</cp:revision>
  <dc:subject/>
  <dc:title>CITAS PARA PENS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